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6D5-A3E3-4B3F-AE0B-DBAF2DB83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29D-D142-4C29-9FDE-13F18AF75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9BC0-BBC2-44B5-A38E-D9306A28B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47F1-F5D9-466B-A6F7-56C96A06D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08C9-F87F-4EC6-BCD7-0E83B5B38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D08D-14CD-4DFA-A52D-834FA640E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F8F-8E5B-43E4-BFC8-2D778CDB4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E970-DD52-43BB-BADE-001CF6166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7136-9EB7-473F-B596-D587C7B4E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82A-1CCD-48F3-AEF6-B8B697B58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109-91BA-45E5-835A-3DA339AAA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96A-97C8-43B7-ADD2-7FB29E364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178B-E3F2-4FDA-8676-38B8DD0C4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B6B-D045-4ABB-9D0D-5415D3FE9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1476-5DC0-467F-B1EB-CD9754362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953-0120-4DE0-9BB8-B28E2C93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2F4-8747-451B-A3D9-E8858891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367-A20A-48FE-B894-980121EB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84D-2AE5-4165-B8A1-104F44D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011-9771-4D6B-8764-A7D8516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CEC-5A80-41C3-95AE-CB808C98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D0E-7EFF-4CA7-BA62-6EE1CEF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D7E-A2F4-498B-926D-74B17964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A57-15AB-46D2-A6A9-90A7724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280-702F-46AA-B51F-F6FC24E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1D9-DCA5-4D6A-A3C3-EBB2228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485-9D8E-42FE-9304-90B238DC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F498-B808-4212-859D-ABDF1AF5D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626D-727F-4462-91F7-09B19AF85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st Anticipated Cars of 2011:  Drive Green, Save C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ound 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Car manufacturers believe  that consumers are planning to buy cars that will help the environment, save money and still look good in 201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CF35-832D-449E-8455-26C5BCDFC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4 Fiat 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fiat 500.4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9529-1ACA-488D-AC67-93DE45445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F9E7-5A53-4649-9030-E210D3D13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3 Honda CR-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honda cr-z 3.jpg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026D-C8CB-4FD3-B57D-9930E0B1C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1B7-4C0C-41EA-897A-CEAB4920E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 Chevy Vo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chevy volt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2AD1-4E1D-45F3-A669-01E923FD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7EF2-3A29-43F8-A860-6EEC3D889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1 Nissan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nissan leaf.jpg"/>
          <p:cNvPicPr/>
          <p:nvPr/>
        </p:nvPicPr>
        <p:blipFill>
          <a:blip r:embed="rId1"/>
          <a:stretch/>
        </p:blipFill>
        <p:spPr>
          <a:xfrm>
            <a:off x="533520" y="144792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ED6-D7D0-4C18-B36A-4A62C752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9F6-B852-4240-A037-8DC3D546C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could buy any of these cars, and money (affordability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 issu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would you buy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factors are you conside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your decision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Record your answer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0765-BA0B-49A2-9294-740C555AA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do you like the looks of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362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419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4197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FBF3-8F68-4A21-B8E5-B9F2A866D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Anticipated Cars of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intro.jpg"/>
          <p:cNvPicPr/>
          <p:nvPr/>
        </p:nvPicPr>
        <p:blipFill>
          <a:blip r:embed="rId1"/>
          <a:stretch/>
        </p:blipFill>
        <p:spPr>
          <a:xfrm>
            <a:off x="914400" y="1905120"/>
            <a:ext cx="746748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C7A5-825D-415B-A2E1-44B35FF5C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gets the best mileage? 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447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523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2670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1911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1E4-58EC-49D0-A955-4E33878C2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 initially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7524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A202-0A8E-45B1-AADA-85D9B29E6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, keep for 10 years and add 15,000 miles each year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hevy volt.jpg"/>
          <p:cNvPicPr/>
          <p:nvPr/>
        </p:nvPicPr>
        <p:blipFill>
          <a:blip r:embed="rId4"/>
          <a:stretch/>
        </p:blipFill>
        <p:spPr>
          <a:xfrm>
            <a:off x="1676520" y="4800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8006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F19-1515-4850-8290-AEE790729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could buy any of these cars, and money (affordability) was not an issu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would you bu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I did not have to worry about the purchase price, 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uld buy the ______________ .  It is my first choice because _____________________________________,  _______________________________, and ________ __________________________.  My  second choice for a car would be a___________.   But if I had limited funds, I would settle for buying a  __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5DC-247D-4F6A-A093-8FDD9B038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people might consider these two issues to be opposites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ive Green               Save Cas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they mea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 with your partner for a minut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37B7-0011-454F-8E33-CEFD318F5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ive G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less fossil fuels, 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tter yet, no fossil fuel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us producing les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mate-altering CO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BBC0-F2B0-4B84-91CD-F29AB5C4D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e C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3681360" y="297036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0010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Program Files\Microsoft Office\MEDIA\CAGCAT10\j0222015.wmf"/>
          <p:cNvPicPr/>
          <p:nvPr/>
        </p:nvPicPr>
        <p:blipFill>
          <a:blip r:embed="rId3"/>
          <a:stretch/>
        </p:blipFill>
        <p:spPr>
          <a:xfrm>
            <a:off x="5791320" y="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79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Money to Spend on Other  It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09D-5F94-46BC-A1DD-8BB879D6C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D731-CE5E-4C67-B5AF-AF3D7835B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CEC-6D9C-462C-9974-701FA3A40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5 Ford Fies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1523880" y="1523880"/>
            <a:ext cx="6553440" cy="426744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D8C-6357-4EE0-8691-C516BD8A4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82C-C1C8-4916-9656-066287433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4:13:08Z</dcterms:created>
  <dc:creator>USER</dc:creator>
  <dc:description/>
  <dc:language>en-US</dc:language>
  <cp:lastModifiedBy>lhockenberry</cp:lastModifiedBy>
  <dcterms:modified xsi:type="dcterms:W3CDTF">2011-03-01T15:18:23Z</dcterms:modified>
  <cp:revision>14</cp:revision>
  <dc:subject/>
  <dc:title>Most Anticipated Cars of 2011:  Drive Green, Save Cash</dc:title>
</cp:coreProperties>
</file>